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5F5-5227-4B45-AB3B-7D5D37DD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1ED-C740-41D5-91DF-E348550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D76-E75B-4036-B844-DA5045CA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A21-5E07-499F-9D64-3B156E74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CB5-A1F0-45B6-8242-8BAB1141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B1F-B0B3-4177-85BE-40EDB514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28E-D4E6-4C38-97C8-F114AA5F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018-3A10-423C-A0B0-D2F25792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E54-F0DA-424E-8A09-F23411A0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B95-899F-478E-9116-DC6A4AD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8C1-7FCD-465F-956D-C60F8D27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BEB-8707-486D-B6BE-3AE3A40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3BC1-D2B5-4D89-AD8B-63E6C2FE86C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Industry In Europ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The Ruhr V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hr Valle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industrial heartland of Europ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ocated on the western side of Germany and encompasses large cities such as Dortmund and Dusseldor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Second World War it was one of the prime targets for the Allied Fo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gion is served by two of Europe's largest rivers, the Ruhr and the Rh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llowed the region to develop as they initially provided power, as well as transport, which is still used to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ge barges travel along the River Rhine loaded with raw materials or the produce of the Ruhr Valley indus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s central location makes it a perfect place for industry, as export to the whole of Europe is very easy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many local cities mean that there is a huge workforce in the area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Natural resources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occur in abundanc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were the main reason for the industry locating here in the first plac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re are huge deposits of coal, which powered the heavy industr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nufacturing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uhr Valley is primarily an area of heav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ufacturing indust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uch as steel manufacture, chemical production and engineer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he past half century the car manufacture industry has also grown massively in the area, as well as food processing and oil ref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with the natural resources slowly declining, there has had to have been a move towards more hi-tech industries locating in the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has helped the area, however there is still a problem of unemployment due to the traditional industries, upon which the area relies so heavily, having to become more mechanised and effic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4:22:18Z</dcterms:created>
  <dc:creator>Dell_02</dc:creator>
  <dc:description/>
  <dc:language>en-US</dc:language>
  <cp:lastModifiedBy>Dell_02</cp:lastModifiedBy>
  <dcterms:modified xsi:type="dcterms:W3CDTF">2011-01-27T04:29:02Z</dcterms:modified>
  <cp:revision>1</cp:revision>
  <dc:subject/>
  <dc:title>Industry In Europe</dc:title>
</cp:coreProperties>
</file>